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image5.wmf" ContentType="image/x-wmf"/>
  <Override PartName="/ppt/media/image2.wmf" ContentType="image/x-wmf"/>
  <Override PartName="/ppt/media/image3.png" ContentType="image/png"/>
  <Override PartName="/ppt/media/carbrake.wav" ContentType="audio/x-wav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C9B-681A-4403-A42F-73292117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D61-CCD3-4517-BF31-234ECAFC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BE7-7232-49CF-9C16-253D3A8E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4E1-0BCA-4BC6-90C3-2973BCC2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8E6-9950-4566-A60D-D4FA49EB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BD65-0315-41E4-873C-BD847344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DA89-299A-42E8-8D00-E355F9B5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462B-3AE6-40F2-B318-56CBD9A9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D671-3FFD-4D67-9A6C-C75549D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ABF3-5C01-46E0-91FD-49336025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DC4B-7D30-47E8-9879-32544013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6B4-91C2-4137-B13A-9DE9DB43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A433-00A7-4DCA-A552-87B5699E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DA57-BAA7-441B-B57F-7E389D08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B067-8780-4967-885E-9D93F86A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EFAA-8585-4886-9F47-CEDD463F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E9BA-5880-466F-8373-E0B0B7E5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985-7F1F-4182-8ADB-BBC8FABE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956-2E0A-4DBF-82C5-57B62540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11B-3BBC-48AE-80F4-876E1D9D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4A0-D5D8-46B5-86A8-8B019BA9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C18-E17C-4E79-AC57-8A3C586A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9B3-C5DD-4145-A1C8-E6FCE90E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12F-02F5-4DC7-830D-5B704D18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F539-5984-4025-967A-407ECDD1AC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2C52-D57C-4A9E-9871-F4648F9600B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audio" Target="../media/carbrake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143000" y="380880"/>
            <a:ext cx="6248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endment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/>
          <p:nvPr/>
        </p:nvSpPr>
        <p:spPr>
          <a:xfrm>
            <a:off x="967680" y="1336680"/>
            <a:ext cx="587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27 amendments to the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n =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, 14, 15 = Civil War Amend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hibition- repealed by the 21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2819520"/>
            <a:ext cx="5105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st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1902240" y="4114800"/>
            <a:ext cx="391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reedom of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stablishment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ree Exercise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reedom of Speech &amp; 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reedom of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reedom of 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00800" y="3276720"/>
            <a:ext cx="17064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4952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nd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1282680" y="205740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Right to keep and bear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577880" cy="1800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990720" y="2895480"/>
            <a:ext cx="5105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rd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1562400" y="4237200"/>
            <a:ext cx="48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No quartering of sold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in time of pe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without consent of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080" y="586728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* Sound familiar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181480" y="5562720"/>
            <a:ext cx="10670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990720" y="533520"/>
            <a:ext cx="5181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1452600" y="1905120"/>
            <a:ext cx="61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No unreasonable searches and seiz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must have probable cau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400" y="3200400"/>
            <a:ext cx="5334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1663200" y="454176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Right to Due process of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67880" y="50752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No double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32680" y="563868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Don’t have to testify against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0880" y="609588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lead the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0" y="3581280"/>
            <a:ext cx="1413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066680" y="45720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6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/>
          <p:nvPr/>
        </p:nvSpPr>
        <p:spPr>
          <a:xfrm>
            <a:off x="2115360" y="186048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Right to a speedy and public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5160" y="228600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Right to a law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19320" y="312408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7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2211480" y="45277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Right to a jury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76520" y="5029200"/>
            <a:ext cx="4343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066680" y="45720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8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1726200" y="18288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No excessive b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304640" cy="1814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62200" y="22860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No cruel &amp; unusual pun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9320" y="274320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9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1900440" y="419112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People have rights beyond those li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371600" y="4724280"/>
            <a:ext cx="525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th Amendm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/>
          <p:nvPr/>
        </p:nvSpPr>
        <p:spPr>
          <a:xfrm>
            <a:off x="2032920" y="60199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Powers not listed are given to the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3:32:20Z</dcterms:created>
  <dc:creator>nalbert</dc:creator>
  <dc:description/>
  <dc:language>en-US</dc:language>
  <cp:lastModifiedBy>nalbert</cp:lastModifiedBy>
  <dcterms:modified xsi:type="dcterms:W3CDTF">2006-11-06T13:37:14Z</dcterms:modified>
  <cp:revision>3</cp:revision>
  <dc:subject/>
  <dc:title>PowerPoint Presentation</dc:title>
</cp:coreProperties>
</file>